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6CBB-8413-4FF6-AEF4-8AEEDFD3E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ikidoc.org/index.php/Thylak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9B4-5202-492D-8045-C9418336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6C5A-E1BE-4386-BAD0-FF71083A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3F08-2BAF-4834-B546-F3F4E745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05EE-C2DC-48AD-9838-20D155D1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87D6-2B4F-4FA1-B302-AC7B1355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F74-D7D7-4C8F-8D81-714A8B89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69A-3354-4E8B-939E-2AA7D24D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3D01-6FF8-4028-B777-DDC62349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D96B-C6BC-488C-8486-E0CCFAA2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ED9-69FA-49C9-8B65-26EF6614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50F-40DE-4C34-8BEE-36BDA54D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6ED-5994-4686-8980-10D1F5F8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49BF-05BC-44FD-BE5A-DBD50E181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ence.smith.edu/departments/Biology/Bio231/calvin.html" TargetMode="External"/><Relationship Id="rId2" Type="http://schemas.openxmlformats.org/officeDocument/2006/relationships/hyperlink" Target="http://highered.mcgraw-hill.com/sites/0070960526/student_view0/chapter5/animation_quiz_1.html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E82qtKSSH4&amp;feature=endscreen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ways of Photosynthe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In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st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enzyme-catalyzed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rbon fi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eduction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uBP 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57520" y="609480"/>
            <a:ext cx="5627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3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lecules that enter the Calvin cycle, 1 G3P molecule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G3P molecules are used to regenerate Ru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of Calvin cy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ience.smith.edu/departments/Biology/Bio231/calvi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with qui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highered.mcgraw-hill.com/sites/0070960526/student_view0/chapter5/animation_quiz_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1 G3P molecule that comes out of the Calvin cycl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9 A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 NAD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Reactions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63720" y="1981080"/>
            <a:ext cx="721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et that Photosynthesis song out of your head and fill it with a photosynthesis ra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pE82qtKSSH4&amp;feature=end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22:11:05Z</dcterms:created>
  <dc:creator>rubina khan</dc:creator>
  <dc:description/>
  <dc:language>en-US</dc:language>
  <cp:lastModifiedBy>rubina khan</cp:lastModifiedBy>
  <dcterms:modified xsi:type="dcterms:W3CDTF">2013-10-30T17:07:05Z</dcterms:modified>
  <cp:revision>31</cp:revision>
  <dc:subject/>
  <dc:title>PowerPoint Presentation</dc:title>
</cp:coreProperties>
</file>